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3DE-A33A-4E4F-80F8-7530CA3E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FE7-6947-487B-A811-D912916B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312-599A-4171-B990-682C7012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D1D-AB5C-4396-A51D-CA4CF22B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8C1-33DC-4EF3-AD35-90C242E4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E2D-F6AA-41DB-AFAC-90ADC83C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4CE-0552-4CC8-B998-E9370B30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995-C48B-42CA-A96D-9C13143D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209-65E2-45A6-9C1B-9295B4ED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4EC-03F0-4EEA-9C3E-5C35CF62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0CBB-23A3-414D-97F7-46737C3F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1DC-6058-48CB-A560-E270D14D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E4C0-3055-45AE-A0F9-765D55ADA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hat affect does gender have on seeing the differences between two pictures?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By: Jessica Ric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538280" cy="174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4648320"/>
            <a:ext cx="2514600" cy="1434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21337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r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min.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oy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min./sec.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-1:41                Tristin P.- 1: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ma- 2:32             Tristen V.- 1: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y S.- 1:21        Zane- 1:0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i F.- 1:51         Brayden- 2: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in- 1:29                 Erik- 2: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was really no difference between the boys and girls. Most of the boys were faster than the girls. Although some of the guys had slower times over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ajor Observation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of the guys had faster times. When comparing the times between each gender there was really no differ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ossible Causes of Error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old them that the corners of the sun didn’t count, and some of them didn’t get what I was saying so they took along time trying to find the last differ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was some distractions when taking the test so that costed some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ween the boys and girls their brains aren’t different at all. The only difference really is the fact that boys’ brains develop slower than girls’ brai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is project I spent approximately 10 hours over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nks for all of the people who were in my experiment!!! It helped me a lot for my experi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pecial Thanks to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, Emma, Shelby S., Shelbi F, Erin, Tristin P., Tristen V., Zane, Brayden, and Er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Boys' And Girls' Brains Are Different: Gender Differences In Language Appear Biological."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cience Daily: News &amp; Articles in Science, Health, Environment &amp; Technolog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9 Jan. 2012. &lt;http://www.sciencedaily.com/releases/2008/03/080303120346&gt;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All About Eyes."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KidsHeal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9 Jan. 2012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kidshealth.org/parent/general/body_basics/eyes.html&gt;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 NASSPE: Research &gt; Brain Differences ."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ASSPE: Home &gt;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ntroducti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7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n. 2012. &lt;http://www.singlesexschools.org/research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in.htm&gt;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gender have an affect on how fast people can see the difference between two pictur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3048120"/>
            <a:ext cx="1827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looked at the can-you-find-the-difference pictures in the newspaper? Have you ever wondered if the fact that gend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s a difference on how fast you can find the differences? Wel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am trying to find if there is a differ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4724280"/>
            <a:ext cx="14572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pictures that are the same but have differences that you have to fi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Girls &amp; 5 Bo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n or Penc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per to keep track of ti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rls                       Boy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                    Tristin 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ma L.              Tristen V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y S.             Zane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i F.              Bray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ci W.                Erik V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Background Info.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really no difference between boys and girls brains. The only difference would be how fast they produc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rls have different ways that they’re brains work. They have a very good ability to be able to understand language related things than guys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eyes and our brain work together to be able to see things, and see other things like, size, shape, texture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hink that the girls will be able to find all of the differences faster. Girls usually tend to be able to find things faster when looking for some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I will take each person by themselves and I won’t show them the pictures until I start to time the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I will time them and finish once they have found all of the differ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I will look at the times between the boys and girls, and I will be able to see who found all of the difference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compare their ti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ependent- Pi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t- Comparing boys and gir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led- Pi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32:37Z</dcterms:created>
  <dc:creator>USD376</dc:creator>
  <dc:description/>
  <dc:language>en-US</dc:language>
  <cp:lastModifiedBy>USD376</cp:lastModifiedBy>
  <dcterms:modified xsi:type="dcterms:W3CDTF">2012-03-02T17:29:56Z</dcterms:modified>
  <cp:revision>10</cp:revision>
  <dc:subject/>
  <dc:title>What affect does gender have on seeing the differences between two pictures? </dc:title>
</cp:coreProperties>
</file>